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E03-3CF4-406B-BFE2-726F76AC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42B-4328-405A-8F0A-E78E5DE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C74-9EAA-4076-B34A-4D9CC5B2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8FD-83AD-4722-A4A3-D613B346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4E6-7F52-4374-BE91-DFFEA124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F0F-9D69-4ABE-9260-F2828A4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40B-AA44-42BC-A3C9-E7DA93D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8D6-D321-464A-91F5-82C4225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571-D3AA-4414-9F5A-D4CBC4B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672-4CA4-4F04-925A-E79BCE9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44A-68A0-42E0-8E56-CE7557F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92F-9EFC-42EF-8E24-FBC793A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65C-8C34-411E-BE1A-AB7CF3115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000" y="36000"/>
            <a:ext cx="6480000" cy="863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配食をされる方へのお願いで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4640" y="973080"/>
            <a:ext cx="3672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気温が高くなり、食中毒の発生が心配さ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次のことを必ず守りましょ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jpnsport.go.jp/anzen/Portals/0/anzen/kenko/siryou/character2/m/M-04.png"/>
          <p:cNvPicPr/>
          <p:nvPr/>
        </p:nvPicPr>
        <p:blipFill>
          <a:blip r:embed="rId1"/>
          <a:stretch/>
        </p:blipFill>
        <p:spPr>
          <a:xfrm>
            <a:off x="4967280" y="7189920"/>
            <a:ext cx="1486080" cy="148572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"/>
          <p:cNvGrpSpPr/>
          <p:nvPr/>
        </p:nvGrpSpPr>
        <p:grpSpPr>
          <a:xfrm>
            <a:off x="4375080" y="1143000"/>
            <a:ext cx="1646280" cy="1197000"/>
            <a:chOff x="4375080" y="1143000"/>
            <a:chExt cx="1646280" cy="1197000"/>
          </a:xfrm>
        </p:grpSpPr>
        <p:pic>
          <p:nvPicPr>
            <p:cNvPr id="45" name="Picture 8" descr="http://www.jpnsport.go.jp/anzen/Portals/0/anzen/kenko/siryou/character2/m/M-01.png"/>
            <p:cNvPicPr/>
            <p:nvPr/>
          </p:nvPicPr>
          <p:blipFill>
            <a:blip r:embed="rId2"/>
            <a:stretch/>
          </p:blipFill>
          <p:spPr>
            <a:xfrm>
              <a:off x="5003280" y="1320480"/>
              <a:ext cx="101808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http://www.jpnsport.go.jp/anzen/Portals/0/anzen/kenko/siryou/character2/m/M-02.png"/>
            <p:cNvPicPr/>
            <p:nvPr/>
          </p:nvPicPr>
          <p:blipFill>
            <a:blip r:embed="rId3"/>
            <a:stretch/>
          </p:blipFill>
          <p:spPr>
            <a:xfrm>
              <a:off x="4375080" y="1143000"/>
              <a:ext cx="1018080" cy="10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0" descr="http://www.jpnsport.go.jp/anzen/Portals/0/anzen/kenko/siryou/character2/m/M-43.png"/>
          <p:cNvPicPr/>
          <p:nvPr/>
        </p:nvPicPr>
        <p:blipFill>
          <a:blip r:embed="rId4"/>
          <a:stretch/>
        </p:blipFill>
        <p:spPr>
          <a:xfrm>
            <a:off x="3605040" y="608472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C:\Users\kumamoto\Desktop\illustration_article\手袋.jpg"/>
          <p:cNvPicPr/>
          <p:nvPr/>
        </p:nvPicPr>
        <p:blipFill>
          <a:blip r:embed="rId5"/>
          <a:stretch/>
        </p:blipFill>
        <p:spPr>
          <a:xfrm>
            <a:off x="1906560" y="3868560"/>
            <a:ext cx="855720" cy="80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:\Users\kumamoto\Pictures\図1.png"/>
          <p:cNvPicPr/>
          <p:nvPr/>
        </p:nvPicPr>
        <p:blipFill>
          <a:blip r:embed="rId6"/>
          <a:stretch/>
        </p:blipFill>
        <p:spPr>
          <a:xfrm>
            <a:off x="1773360" y="2916360"/>
            <a:ext cx="253836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角丸四角形吹き出し 5"/>
          <p:cNvSpPr/>
          <p:nvPr/>
        </p:nvSpPr>
        <p:spPr>
          <a:xfrm>
            <a:off x="4354560" y="2973240"/>
            <a:ext cx="1535040" cy="895320"/>
          </a:xfrm>
          <a:prstGeom prst="wedgeRoundRectCallout">
            <a:avLst>
              <a:gd name="adj1" fmla="val -90523"/>
              <a:gd name="adj2" fmla="val 62500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マス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鼻まできちんとおお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吹き出し 25"/>
          <p:cNvSpPr/>
          <p:nvPr/>
        </p:nvSpPr>
        <p:spPr>
          <a:xfrm>
            <a:off x="4356000" y="4179960"/>
            <a:ext cx="1535040" cy="896760"/>
          </a:xfrm>
          <a:prstGeom prst="wedgeRoundRectCallout">
            <a:avLst>
              <a:gd name="adj1" fmla="val -105416"/>
              <a:gd name="adj2" fmla="val -1608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清潔な衣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吹き出し 26"/>
          <p:cNvSpPr/>
          <p:nvPr/>
        </p:nvSpPr>
        <p:spPr>
          <a:xfrm>
            <a:off x="711360" y="2967120"/>
            <a:ext cx="1535040" cy="896760"/>
          </a:xfrm>
          <a:prstGeom prst="wedgeRoundRectCallout">
            <a:avLst>
              <a:gd name="adj1" fmla="val 65884"/>
              <a:gd name="adj2" fmla="val 4338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い捨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7"/>
          <p:cNvSpPr/>
          <p:nvPr/>
        </p:nvSpPr>
        <p:spPr>
          <a:xfrm>
            <a:off x="333360" y="2106720"/>
            <a:ext cx="324000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身だしな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29"/>
          <p:cNvSpPr/>
          <p:nvPr/>
        </p:nvSpPr>
        <p:spPr>
          <a:xfrm>
            <a:off x="189000" y="5346720"/>
            <a:ext cx="30319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体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角丸四角形 30"/>
          <p:cNvSpPr/>
          <p:nvPr/>
        </p:nvSpPr>
        <p:spPr>
          <a:xfrm>
            <a:off x="3540240" y="5346720"/>
            <a:ext cx="31525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配食の前に手をよく洗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21"/>
          <p:cNvGrpSpPr/>
          <p:nvPr/>
        </p:nvGrpSpPr>
        <p:grpSpPr>
          <a:xfrm>
            <a:off x="356040" y="6492960"/>
            <a:ext cx="2982240" cy="2400120"/>
            <a:chOff x="356040" y="6492960"/>
            <a:chExt cx="2982240" cy="2400120"/>
          </a:xfrm>
        </p:grpSpPr>
        <p:pic>
          <p:nvPicPr>
            <p:cNvPr id="57" name="Picture 16" descr="http://www.jpnsport.go.jp/anzen/Portals/0/anzen/kenko/siryou/character2/m/M-41.png"/>
            <p:cNvPicPr/>
            <p:nvPr/>
          </p:nvPicPr>
          <p:blipFill>
            <a:blip r:embed="rId7"/>
            <a:stretch/>
          </p:blipFill>
          <p:spPr>
            <a:xfrm>
              <a:off x="356040" y="7095240"/>
              <a:ext cx="1240560" cy="12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8" descr="http://www.jpnsport.go.jp/anzen/Portals/0/anzen/kenko/siryou/character2/m/M-40.png"/>
            <p:cNvPicPr/>
            <p:nvPr/>
          </p:nvPicPr>
          <p:blipFill>
            <a:blip r:embed="rId8"/>
            <a:stretch/>
          </p:blipFill>
          <p:spPr>
            <a:xfrm>
              <a:off x="1176120" y="6492960"/>
              <a:ext cx="10882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9" descr="http://www.jpnsport.go.jp/anzen/Portals/0/anzen/kenko/siryou/character2/m/M-56.png"/>
            <p:cNvPicPr/>
            <p:nvPr/>
          </p:nvPicPr>
          <p:blipFill>
            <a:blip r:embed="rId9"/>
            <a:stretch/>
          </p:blipFill>
          <p:spPr>
            <a:xfrm>
              <a:off x="1176120" y="7640280"/>
              <a:ext cx="125316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2" descr="C:\Users\kumamoto\Pictures\1244385907[1].jpg"/>
            <p:cNvPicPr/>
            <p:nvPr/>
          </p:nvPicPr>
          <p:blipFill>
            <a:blip r:embed="rId10"/>
            <a:stretch/>
          </p:blipFill>
          <p:spPr>
            <a:xfrm>
              <a:off x="2103120" y="7166880"/>
              <a:ext cx="5918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直線コネクタ 10"/>
            <p:cNvSpPr/>
            <p:nvPr/>
          </p:nvSpPr>
          <p:spPr>
            <a:xfrm>
              <a:off x="946080" y="6851520"/>
              <a:ext cx="1641600" cy="141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35"/>
            <p:cNvSpPr/>
            <p:nvPr/>
          </p:nvSpPr>
          <p:spPr>
            <a:xfrm flipV="1">
              <a:off x="893520" y="6827400"/>
              <a:ext cx="1549440" cy="1438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20"/>
            <p:cNvSpPr/>
            <p:nvPr/>
          </p:nvSpPr>
          <p:spPr>
            <a:xfrm>
              <a:off x="577080" y="83361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腹痛・下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45"/>
            <p:cNvSpPr/>
            <p:nvPr/>
          </p:nvSpPr>
          <p:spPr>
            <a:xfrm>
              <a:off x="1905840" y="6544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嘔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46"/>
            <p:cNvSpPr/>
            <p:nvPr/>
          </p:nvSpPr>
          <p:spPr>
            <a:xfrm>
              <a:off x="2201040" y="8435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発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47"/>
            <p:cNvSpPr/>
            <p:nvPr/>
          </p:nvSpPr>
          <p:spPr>
            <a:xfrm>
              <a:off x="2730960" y="7883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指のけ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テキスト ボックス 22"/>
          <p:cNvSpPr/>
          <p:nvPr/>
        </p:nvSpPr>
        <p:spPr>
          <a:xfrm>
            <a:off x="1634760" y="604836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こんなときは、配食できません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角丸四角形吹き出し 51"/>
          <p:cNvSpPr/>
          <p:nvPr/>
        </p:nvSpPr>
        <p:spPr>
          <a:xfrm>
            <a:off x="5091120" y="6051600"/>
            <a:ext cx="1601640" cy="896760"/>
          </a:xfrm>
          <a:prstGeom prst="wedgeRoundRectCallout">
            <a:avLst>
              <a:gd name="adj1" fmla="val -72523"/>
              <a:gd name="adj2" fmla="val 3170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石けんを使ってしっかり洗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角丸四角形吹き出し 52"/>
          <p:cNvSpPr/>
          <p:nvPr/>
        </p:nvSpPr>
        <p:spPr>
          <a:xfrm>
            <a:off x="3540240" y="7932600"/>
            <a:ext cx="1600200" cy="897120"/>
          </a:xfrm>
          <a:prstGeom prst="wedgeRoundRectCallout">
            <a:avLst>
              <a:gd name="adj1" fmla="val 67259"/>
              <a:gd name="adj2" fmla="val -1502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手洗い後は、消毒液を使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02:53:46Z</dcterms:created>
  <dc:creator>kumamoto</dc:creator>
  <dc:description/>
  <dc:language>en-US</dc:language>
  <cp:lastModifiedBy>kumamoto</cp:lastModifiedBy>
  <cp:lastPrinted>2016-06-07T10:49:54Z</cp:lastPrinted>
  <dcterms:modified xsi:type="dcterms:W3CDTF">2017-03-29T02:15:41Z</dcterms:modified>
  <cp:revision>11</cp:revision>
  <dc:subject/>
  <dc:title>配食をされる方へのお願いです。</dc:title>
</cp:coreProperties>
</file>