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4DF9-89A1-4AD8-809E-71848988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C02-132C-406E-8676-4AB4B4C7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E38-BB55-470C-8C48-B828C1D0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D5D4-B839-4F0B-A5BF-ADFB36A4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E73F-54B4-4645-A781-AACC7A05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EFE-6A1A-482B-BFA5-E09957B6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9C8-B19D-4991-AFC4-17D9C58A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89F9-19B0-4F4C-A863-34E19AA5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118-C69B-4ECD-A07C-15F219F9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DDBF-D642-4AEA-97DA-71BEDBBC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2A0-ADF6-40E2-9A3E-5EE89A70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A786-CB04-488E-9C3F-37481D55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4E54-9ED1-4138-BF0D-F9A49B9D00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8120" y="1643040"/>
            <a:ext cx="5829480" cy="1960560"/>
          </a:xfrm>
          <a:prstGeom prst="rect">
            <a:avLst/>
          </a:prstGeom>
          <a:noFill/>
          <a:ln w="57240">
            <a:solidFill>
              <a:srgbClr val="7f7f7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Calibri"/>
              </a:rPr>
              <a:t>食物アレルギーは</a:t>
            </a:r>
            <a:br>
              <a:rPr sz="5400"/>
            </a:br>
            <a:r>
              <a:rPr b="0" lang="ja-JP" sz="5400" spc="-1" strike="noStrike">
                <a:solidFill>
                  <a:srgbClr val="000000"/>
                </a:solidFill>
                <a:latin typeface="Calibri"/>
              </a:rPr>
              <a:t>ありませんか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040" y="3714840"/>
            <a:ext cx="5857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ない　・　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Calibri"/>
              </a:rPr>
              <a:t>あ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「ある」と回答された方は具体的にお答えくださ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Calibri"/>
              </a:rPr>
              <a:t>食べてはいけない食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タイトル 1"/>
          <p:cNvSpPr/>
          <p:nvPr/>
        </p:nvSpPr>
        <p:spPr>
          <a:xfrm>
            <a:off x="2928960" y="428760"/>
            <a:ext cx="3571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記入日　　 （　　　　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　　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区画番号　（　　 　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　     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お名前　 　（　　　　　　　　       　）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図 4" descr="illust122.png"/>
          <p:cNvPicPr/>
          <p:nvPr/>
        </p:nvPicPr>
        <p:blipFill>
          <a:blip r:embed="rId1"/>
          <a:stretch/>
        </p:blipFill>
        <p:spPr>
          <a:xfrm>
            <a:off x="5072040" y="6572160"/>
            <a:ext cx="1285920" cy="2220840"/>
          </a:xfrm>
          <a:prstGeom prst="rect">
            <a:avLst/>
          </a:prstGeom>
          <a:ln w="0">
            <a:noFill/>
          </a:ln>
        </p:spPr>
      </p:pic>
      <p:cxnSp>
        <p:nvCxnSpPr>
          <p:cNvPr id="45" name="カギ線コネクタ 6"/>
          <p:cNvCxnSpPr/>
          <p:nvPr/>
        </p:nvCxnSpPr>
        <p:spPr>
          <a:xfrm rot="5400000">
            <a:off x="2270520" y="3108960"/>
            <a:ext cx="827640" cy="30614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5T00:26:58Z</dcterms:created>
  <dc:creator>pc-mnt</dc:creator>
  <dc:description/>
  <dc:language>en-US</dc:language>
  <cp:lastModifiedBy>kumamoto</cp:lastModifiedBy>
  <dcterms:modified xsi:type="dcterms:W3CDTF">2017-03-29T02:32:49Z</dcterms:modified>
  <cp:revision>3</cp:revision>
  <dc:subject/>
  <dc:title>食物アレルギーは ありませんか？</dc:title>
</cp:coreProperties>
</file>